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5E2-F01D-4316-8E17-883CC243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8E7-CE8E-4BF2-9C3D-A9FF4EC2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184-04B1-4457-BEA8-7011D7D9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0F8-B561-47B8-942D-2AC9D805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4C3-0F11-44E3-9374-A245F16C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E87-84C3-418E-9D0E-DBC89D6D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95A-54E9-4716-BDBA-72E18E48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FD8-F0A2-46E4-B674-0902DD22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296-135B-40D5-8ABE-207C5AFD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4DF-B4A0-4303-B009-7B4BA757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BD9-6555-494B-A285-DD7237C1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A30-7744-4226-96A6-3CC619F1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005cbf">
                <a:alpha val="65098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975D-C89B-40B4-B35E-3B114232F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r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hy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ow can we avoid i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arré corné 2"/>
          <p:cNvSpPr/>
          <p:nvPr/>
        </p:nvSpPr>
        <p:spPr>
          <a:xfrm>
            <a:off x="395280" y="260280"/>
            <a:ext cx="1297080" cy="865080"/>
          </a:xfrm>
          <a:prstGeom prst="foldedCorner">
            <a:avLst>
              <a:gd name="adj" fmla="val 16666"/>
            </a:avLst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2009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I / Cub was yo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ork to d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y on huge database or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line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est the model for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bject r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57760" y="5000760"/>
            <a:ext cx="915840" cy="8856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857160" y="4429080"/>
            <a:ext cx="500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nvince people to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give up analytical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5:24:08Z</dcterms:created>
  <dc:creator>Stephane</dc:creator>
  <dc:description/>
  <dc:language>en-US</dc:language>
  <cp:lastModifiedBy>Stephane Lallee</cp:lastModifiedBy>
  <dcterms:modified xsi:type="dcterms:W3CDTF">2013-07-24T12:13:23Z</dcterms:modified>
  <cp:revision>20</cp:revision>
  <dc:subject/>
  <dc:title>Diapositive 1</dc:title>
</cp:coreProperties>
</file>